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7AC-B168-48C5-9422-5F0DA8D8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928-24B9-41FF-BE38-BBEF4A00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D0E-F55B-4A41-A3F5-A1A9ADEC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68A-7889-4C3D-AECD-5683E892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E4C-879F-4636-9706-C1BF38D4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3B7-1651-4E27-9EC4-B8F55CAF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4D9-2017-49F2-A9F5-F2A8B51B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9E2-3574-4972-86F7-4537039F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F48-A18E-4245-B88C-D0AAA892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78E-D6D4-44D7-8BB3-BA3153F3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4FA-A2FF-440B-9BB1-B847CBFA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C53-7197-482F-A7F6-FD05BAF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626-A328-4388-83A5-CF45818D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2057400" y="5943600"/>
            <a:ext cx="1981080" cy="762120"/>
          </a:xfrm>
          <a:custGeom>
            <a:avLst/>
            <a:gdLst>
              <a:gd name="textAreaLeft" fmla="*/ 95040 w 1981080"/>
              <a:gd name="textAreaRight" fmla="*/ 1886040 w 1981080"/>
              <a:gd name="textAreaTop" fmla="*/ 95040 h 762120"/>
              <a:gd name="textAreaBottom" fmla="*/ 667080 h 762120"/>
            </a:gdLst>
            <a:ahLst/>
            <a:rect l="textAreaLeft" t="textAreaTop" r="textAreaRight" b="textAreaBottom"/>
            <a:pathLst>
              <a:path w="1981200" h="762000">
                <a:moveTo>
                  <a:pt x="0" y="0"/>
                </a:moveTo>
                <a:lnTo>
                  <a:pt x="1981200" y="0"/>
                </a:lnTo>
                <a:lnTo>
                  <a:pt x="1981200" y="762000"/>
                </a:lnTo>
                <a:lnTo>
                  <a:pt x="0" y="762000"/>
                </a:lnTo>
                <a:close/>
                <a:moveTo>
                  <a:pt x="95250" y="95250"/>
                </a:moveTo>
                <a:lnTo>
                  <a:pt x="95250" y="666750"/>
                </a:lnTo>
                <a:lnTo>
                  <a:pt x="1885950" y="666750"/>
                </a:lnTo>
                <a:lnTo>
                  <a:pt x="1885950" y="95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990720" y="464832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Be STUPYX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w to make a good graph of your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4"/>
          <p:cNvCxnSpPr/>
          <p:nvPr/>
        </p:nvCxnSpPr>
        <p:spPr>
          <a:xfrm>
            <a:off x="228600" y="1904760"/>
            <a:ext cx="861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6"/>
          <p:cNvSpPr/>
          <p:nvPr/>
        </p:nvSpPr>
        <p:spPr>
          <a:xfrm>
            <a:off x="990720" y="2057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438280" y="2057400"/>
            <a:ext cx="6248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rements(what you count by) on y-axis are the same all the way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rements on the x-axis are the same all the way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rements ar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s at 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graph if data is close together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r from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8"/>
          <p:cNvCxnSpPr/>
          <p:nvPr/>
        </p:nvCxnSpPr>
        <p:spPr>
          <a:xfrm>
            <a:off x="2361960" y="1904760"/>
            <a:ext cx="1080" cy="419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84" name="Picture 9" descr="j0282576"/>
          <p:cNvPicPr/>
          <p:nvPr/>
        </p:nvPicPr>
        <p:blipFill>
          <a:blip r:embed="rId1"/>
          <a:stretch/>
        </p:blipFill>
        <p:spPr>
          <a:xfrm>
            <a:off x="304920" y="4648320"/>
            <a:ext cx="1471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304920" y="533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666880" y="685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(IV) on (D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28600" y="14479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666880" y="13716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ed on any axis that has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0492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819520" y="2362320"/>
            <a:ext cx="5333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right type of graph (bar, lin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l of the data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asy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12760" y="407520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666880" y="41911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s labeled with the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04920" y="5029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666880" y="5105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s labeled with the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7"/>
          <p:cNvCxnSpPr/>
          <p:nvPr/>
        </p:nvCxnSpPr>
        <p:spPr>
          <a:xfrm>
            <a:off x="2437920" y="0"/>
            <a:ext cx="1080" cy="586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AutoShape 18"/>
          <p:cNvCxnSpPr/>
          <p:nvPr/>
        </p:nvCxnSpPr>
        <p:spPr>
          <a:xfrm>
            <a:off x="0" y="5866920"/>
            <a:ext cx="9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Text Box 19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mmary Statement:   A good data graph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j0287310"/>
          <p:cNvPicPr/>
          <p:nvPr/>
        </p:nvPicPr>
        <p:blipFill>
          <a:blip r:embed="rId1"/>
          <a:stretch/>
        </p:blipFill>
        <p:spPr>
          <a:xfrm>
            <a:off x="7162920" y="3124080"/>
            <a:ext cx="1792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1600200"/>
          <a:ext cx="9144000" cy="45054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5680"/>
                <a:gridCol w="1522440"/>
                <a:gridCol w="1523880"/>
              </a:tblGrid>
              <a:tr h="1462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of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ree Throws Made in 2 minu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# of baskets ma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30"/>
          <p:cNvSpPr/>
          <p:nvPr/>
        </p:nvSpPr>
        <p:spPr>
          <a:xfrm>
            <a:off x="0" y="838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ffect of Height of Person on Number of Free Throw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hart 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18:25:49Z</dcterms:created>
  <dc:creator>Jean Kavanagh</dc:creator>
  <dc:description/>
  <dc:language>en-US</dc:language>
  <cp:lastModifiedBy>Jean Kavanagh</cp:lastModifiedBy>
  <dcterms:modified xsi:type="dcterms:W3CDTF">2009-10-07T15:42:29Z</dcterms:modified>
  <cp:revision>105</cp:revision>
  <dc:subject/>
  <dc:title>How to Be STUPYX  (how to make a good graph of your data)</dc:title>
</cp:coreProperties>
</file>